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3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1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103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ACC69-9134-4E8E-99B2-B928754DAE1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3356A-BC65-4172-8170-69928564E72F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9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量不保留灌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686DE-89C6-4B2C-A347-32DA7EBBB53D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肛管排气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FCEAF-F522-4365-9315-86275E06563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EBCA8-41E6-4BFA-A388-8D9978395E10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男患者导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65C6F-2776-484E-AC79-0C30F9970645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气囊导尿管固定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7F1FA-6B94-4813-9C12-554A54BB8C69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6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集尿袋固定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5A320-2C5F-4B15-931A-0D57F207C349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膀胱冲洗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8C156-18B3-4D79-AC00-BD197B6BFA7B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膀胱冲洗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942CA-C3C8-4663-AE4B-D072D1382B05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CB7D1-1BD4-422F-88D5-EF486A581C94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大量不保留灌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83EB3-25D8-49D3-8BA8-F11190904F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2F1DA-55A8-4A33-B59A-9F1B97F28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373E2-B3B0-4009-93D1-A975D19F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11F6D-22E5-4785-816C-C47E5ED112B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6609C-4957-4D87-8F38-70097015D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1A65E-C007-4A8F-A24B-7D2DC5A0F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BFA7F-265B-434E-8003-F379A855E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BDB81-6B3F-4931-B76E-3D93C410A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30039-80B3-42E9-92A0-4F404031C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19B5E-D787-4E0B-BE48-4BA30A08C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7B702-5EF8-47BF-BAC2-FB4884E74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8DB34-1624-4604-8DD2-E0DE30C10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7F882-9497-421F-B2B4-B6D61889D32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3920"/>
              <a:chOff x="0" y="4689000"/>
              <a:chExt cx="9097920" cy="40392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6036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2133720"/>
            <a:ext cx="763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十四章  排泄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95280" y="1368360"/>
            <a:ext cx="83296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四）尿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尿液排出体外的通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男性尿道：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cm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个狭窄，即尿道内口、膜部和尿道外口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两个弯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即耻骨下弯和耻骨前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女性尿道：长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cm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较男性尿道短、直、粗，富于扩张性，尿道外口与阴道口、肛门相邻，发生尿道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108000" y="1515960"/>
            <a:ext cx="885672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741240" indent="-28404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：溶液温度为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8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198440" indent="-284040">
              <a:lnSpc>
                <a:spcPct val="15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”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液：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硫酸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甘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温开水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198440" indent="-284040">
              <a:lnSpc>
                <a:spcPct val="15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甘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等量温开水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198440" indent="-284040">
              <a:lnSpc>
                <a:spcPct val="15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各种植物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对、解释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备体位、臀下垫橡胶单与治疗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戴手套、连接、润滑肛管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插肛管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入灌肠液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拔管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嘱其尽量保留灌肠溶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min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再排便。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患者排便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整理床单位，清理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手，并做好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灌肠时插管深度为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c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压力宜低，灌肠液注入的速度不得过快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每次抽吸灌肠液时应反折肛管尾段，防止空气进入肠道，引起腹胀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56840" y="1357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向患者及家属讲解维持正常排便习惯的重要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向患者及家属解释灌肠的意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指导患者及家属保持健康的生活习惯以维持正常排便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概念：将药液灌入到直肠或结肠内，通过肠黏膜吸收达到治疗疾病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镇静、催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治疗肠道感染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68000" y="1428480"/>
            <a:ext cx="816444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-36720" y="1590480"/>
            <a:ext cx="878508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741240" indent="-28404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：溶液及剂量遵医嘱准备，灌肠溶液量不超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溶液温度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8℃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198440" indent="-284040">
              <a:lnSpc>
                <a:spcPct val="15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镇静、催眠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水合氯醛，剂量按医嘱准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198440" indent="-284040">
              <a:lnSpc>
                <a:spcPct val="15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肠道感染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檗碱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5%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霉素或其他抗生素溶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对、解释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备体位、抬高臀部约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cm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戴手套、润滑肛管、插管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缓慢注入药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拔管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  整理床单位，清理用物，洗手，并做好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选择稍细的肛管并且插入要深，液量不宜过多，压力要低，灌入速度宜慢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肛门、直肠、结肠手术的患者及大便失禁的患者，不宜做保留灌肠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留灌肠前嘱患者排便，肠道排空有利于药液吸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了解灌肠目的和病变部位，以确定患者的卧位和插入肛管的深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240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排尿的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生成尿液是一个连续不断的过程，而膀胱的排尿则是间歇进行的。只有当尿液在膀胱内储存并达到一定量时，才能引起反射性的排尿动作，使尿液经尿道排出体外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及家属讲解有关的疾病知识和保留灌肠的方法，正确配合治疗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肛管排气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概念：将肛管从肛门插入直肠，以排除肠腔内积气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帮助患者解除肠腔积气，减轻腹胀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对、解释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备体位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连接排气装置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戴手套，润滑肛管，插管、固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观察排气情况及患者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拔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及家属讲解避免腹胀的方法，如增加活动、正确选择饮食类型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及家属解释肛管排气的意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导患者保持健康的生活习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单项选择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无尿是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尿量少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7ml      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ml      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ml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ml     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0ml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护理留置导尿者，措施不妥的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每天更换集尿袋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每周更换导尿管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每周清洁尿道口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嘱患者多喝水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停止留置导尿前，间歇性夹闭引流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测试题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护理尿失禁患者，措施不妥的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酌情留置导尿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保持床单整洁干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加强皮肤护理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控制饮水量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注意锻炼膀胱的自主反射排尿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当患者胆道完全梗阻时，因胆汁不能进入肠道，粪便呈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鲜红色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暗红色  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柏油样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白陶土色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果酱样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下列哪项不是处理便秘的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口服缓泻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鼓励患者做适当运动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灌肠      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进食无渣食物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腹部环形按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肥皂水灌肠液的浓度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1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2%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3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5%   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%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%        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425520" y="1360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多项选择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为患者实施导尿术过程中应注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严格遵守无菌技术原则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导尿管污染后应立即更换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动作轻慢，防止尿道粘膜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尿潴留患者一次放完全部尿液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酌情关闭门窗，屏风遮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64152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适用于保留灌肠的溶液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“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”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液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水合氯醛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生理盐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檗碱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甘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尿的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0ml→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内压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98kPa 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出现尿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00ml→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内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43kPa →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节律性收缩，患者可控制排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内压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86k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上→患者出现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、案例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女性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，行胃大部切除术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未排尿，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下腹部胀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请问：如果你是责任护士，你将采取什么措施帮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解除痛苦？在操作中需要注意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250920" y="14320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男性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，诊断为直肠癌。准备次日在硬膜外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醉下行直肠癌根治术，术前常规做肠道清洁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请问：如果你是责任护士，你将选择什么方法为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者清洁肠道？操作中需要注意哪些问题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排尿的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5075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楷体_GB2312"/>
              </a:rPr>
              <a:t>排尿的评估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尿次数：成人白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，夜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量：正常情况下每次尿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尿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平均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。尿量和排尿次数受多方面因素的影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液的性状：颜色、透明度、酸碱反应、比重、气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尿液的颜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新鲜尿液呈淡黄色或深黄色，当尿液浓缩时，可见量少色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病理情况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的颜色可有以下变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尿：洗肉水色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红蛋白尿：浓红茶色或酱油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胆红素尿：深黄色或黄褐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乳糜尿：乳白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250560" y="1052640"/>
            <a:ext cx="87138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尿液的透明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常尿液透明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鲜尿液清澈透明，放置后可出现微量絮状沉淀物， 加热、加酸或加碱后，尿液即可澄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情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泌尿系统感染时，新鲜尿液即呈白色絮状混浊，加热、加酸或加碱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混浊度不变。蛋白尿不影响尿液的透明度，但振荡时可产生较多且不易消失的泡沫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78920" y="1142640"/>
            <a:ext cx="847908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尿液的酸碱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人尿液呈弱酸性，一般尿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平均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饮食的种类可影响尿液的酸碱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酸中毒患者的尿液可呈强酸性，严重呕吐患者的尿液可呈强碱性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23640" y="1495440"/>
            <a:ext cx="850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尿液的比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比重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成人的尿比重波动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0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0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一般尿比重与尿量成反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若尿比重经常固定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0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，提示肾功能严重障碍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尿液的气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尿液气味来自尿内的挥发性酸。尿液久置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因尿素分解产生氨，故有氨臭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泌尿道有感染时新鲜尿有氨臭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尿病酮症酸中毒时，因尿中含有丙酮，故有烂苹果气味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排尿的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560" y="1357200"/>
            <a:ext cx="8178840" cy="509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排尿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polyuria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量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500m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情况：大量饮用液体、妊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病理情况：多由内分泌代谢障碍或肾小管浓缩功能不全引起，见于糖尿病、尿崩症、肾衰竭等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5280" y="1339920"/>
            <a:ext cx="8424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识记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列举异常排尿和异常排便的处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说出留置导尿时防止泌尿系统逆行感染的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理解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阐述尿失禁的原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概括影响排便的因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运用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异常排尿和异常排便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08000" y="1486080"/>
            <a:ext cx="8820000" cy="66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排尿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少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oliguria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每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7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热、液体摄入过少、休克等导致患者体内血液循环不足；心脏、肾、肝功能衰竭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无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oliguria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尿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urodialysis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重休克、急性肾衰竭、药物中毒等患者。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楷体_GB2312"/>
              </a:rPr>
              <a:t>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79280" y="1196640"/>
            <a:ext cx="8686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排尿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刺激征：临床表现主要表现为尿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frequent micturition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尿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urgent micturition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尿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dysuria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伴血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34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濒：单位时间内排尿次数增多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34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急：患者突然有强烈尿意，不能控制需立即排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34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痛：排尿时膀胱区及尿道疼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34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膀胱刺激征时常伴有血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排尿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潴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retention of urine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尿液大量存留在膀胱内而不能自主排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及体征：下腹胀痛，排尿困难；耻骨上膨隆，扪及囊性包快叩诊呈实音，有压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见产生原因：机械性梗阻；动力性梗阻；其他各种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0" y="1356840"/>
            <a:ext cx="878688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排尿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失禁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incontinence of urine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排尿失去意识控制或不受意识控制，尿液不自主地流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真性尿失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假性尿失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充溢性尿失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压力性尿失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071360"/>
            <a:ext cx="86868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真性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概念：膀胱稍有一些存尿便会不自主地流出，膀胱处于空虚状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因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脊髓初级排尿中枢与大脑皮层之间联系受损，排尿反射活动失去大脑皮层的控制，膀胱逼尿肌出现无抑制性收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手术、分娩所致的膀胱括约肌损伤或支配括约肌的神经损伤，病变所致膀胱括约肌功能不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与阴道之间有瘘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1143000"/>
            <a:ext cx="914400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假性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概念：又称充溢性尿失禁，膀胱内贮存部分尿液，当膀胱充盈达到一定压力时，即可不自主溢出少量尿液。当膀胱内压力降低时，排尿即行停止，但膀胱仍呈胀满状态而不能排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产生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脊髓初级排尿中枢活动受抑制，膀胱充满尿液，内压增高，迫使少量尿液流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1547640"/>
            <a:ext cx="8229600" cy="48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压力性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概念：当咳嗽、打喷嚏或运动时腹肌收缩，腹内压升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致不自主地有少量尿液排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括约肌张力减低、骨盆底部肌肉及韧带松弛、肥胖。多见于中老年女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63320" y="1371240"/>
            <a:ext cx="444636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影响排尿因素的评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因素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人习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问题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液体和饮食的摄入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459320" y="2133360"/>
            <a:ext cx="40003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候变化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治疗及检查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疾病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因素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三、排尿异常的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潴留患者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供隐蔽的排尿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调整体位和姿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利用条件反射诱导排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潴留患者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热敷、按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必要时根据医嘱肌内注射卡巴可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经上述处理仍不能解除尿潴留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采用导尿术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857320" y="1643040"/>
            <a:ext cx="480060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第一节  排尿护理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失禁患者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肤护理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外部引流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建正常的排尿功能  病情许可分时间段多饮水；定时给予便器协助排便；指导患者进行骨盆底部肌肉的锻炼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24000" y="1566360"/>
            <a:ext cx="8496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失禁患者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于长期尿失禁的患者，可行导尿术留置导尿术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  安慰支持使其树立恢复健康的信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四、与排尿有关的护理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472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导尿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atheteriz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是在严格无菌操作下，用导尿管经尿道插入膀胱引流尿液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留置导尿管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retention catheteriz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是在导尿后，将导尿管保留在膀胱内，持续引流尿液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膀胱冲洗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ladder irrig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是利用三通的导尿管，将溶液灌入到膀胱内，再用虹吸原理将灌入的液体引流出来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导尿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潴留患者引流出尿液，以减轻痛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临床诊断：如留取未受污染的尿标本作细菌培养；测量膀胱容量、压力及检查残余尿；进行尿道或膀胱造影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膀胱肿瘤患者进行膀胱化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对、解释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备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患者准备好体位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垫巾，保护床单不被污染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根据男、女患者尿道解剖特点进行消毒、导尿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4560" y="1196640"/>
            <a:ext cx="91090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[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女性患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]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初步消毒：依次消毒阴阜、大阴唇、小阴唇、尿道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在患者两腿之间打开导尿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戴无菌手套，铺洞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整理用物，润滑尿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再次消毒：分别消毒尿道口、小阴唇、尿道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导尿：持导尿管插入尿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见尿液流出再插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，固定导尿管，将尿液引入弯盘或集尿袋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55" name="Group 8"/>
          <p:cNvGrpSpPr/>
          <p:nvPr/>
        </p:nvGrpSpPr>
        <p:grpSpPr>
          <a:xfrm>
            <a:off x="3132000" y="3213000"/>
            <a:ext cx="4105440" cy="3241440"/>
            <a:chOff x="3132000" y="3213000"/>
            <a:chExt cx="4105440" cy="3241440"/>
          </a:xfrm>
        </p:grpSpPr>
        <p:pic>
          <p:nvPicPr>
            <p:cNvPr id="156" name="Picture 5" descr="图14-1 留置导尿物品"/>
            <p:cNvPicPr/>
            <p:nvPr/>
          </p:nvPicPr>
          <p:blipFill>
            <a:blip r:embed="rId1"/>
            <a:stretch/>
          </p:blipFill>
          <p:spPr>
            <a:xfrm>
              <a:off x="3132000" y="3213000"/>
              <a:ext cx="4105440" cy="28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Text Box 6"/>
            <p:cNvSpPr/>
            <p:nvPr/>
          </p:nvSpPr>
          <p:spPr>
            <a:xfrm>
              <a:off x="4879800" y="60861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</a:rPr>
                <a:t>一次性无菌导尿包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4560" y="1267920"/>
            <a:ext cx="88930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[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男性患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]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初步消毒：依次消毒阴阜、阴茎、阴囊、尿道口、龟头及冠状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同女性患者导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再次消毒：再次消毒尿道口、龟头及冠状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导尿：提起阴茎，与腹壁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0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 持导尿管插入尿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2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见尿液流出再插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将尿液引入弯盘或集尿袋内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夹管、倒尿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取标本  若需作尿培养，用无菌标本瓶接取中段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盖好瓶盖，放置合适处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患者睡卧舒适，收拾清理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量尿量，尿标本贴标签后送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手，记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执行无菌技术操作原则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操作过程中注意保护患者的隐私，并采取适当的措施防止患者着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膀胱高度膨胀且极度虚弱的患者，第一次放尿不得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防止血尿和虚脱的发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与排尿有关的解剖与生理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尿的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尿异常的护理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与排尿有关的护理技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老年女性尿道口回缩，插管时应仔细观察、辨认，避免误入阴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女患者插尿管时，如导尿管误入阴道，应另换无菌导尿管重新插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避免损伤和导致泌尿系统的感染，必须掌握男性和女性尿道的解剖特点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51912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讲解导尿的目的和意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教会患者如何配合操作，减少污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介绍相关疾病的知识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19120" y="1413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留置导尿管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抢救危重、休克患者时正确记录每小时尿量、测量尿比重，以密切观察患者的病情变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盆腔手术排空膀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某些泌尿系统疾病手术后留置导尿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失禁或会阴部有伤口的患者引流尿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失禁患者行膀胱功能训练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5904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留置导尿管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6040" y="1283760"/>
            <a:ext cx="822960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释、核对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导尿 同导尿术插入导尿管，见尿后再插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固定 根据导尿管上注明的气囊容积向气囊注入等量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9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氯化钠溶液，轻拉导尿管有阻力感，即证实导尿管固定于膀胱内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250920" y="14954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固定集尿袋  连接集尿袋，用橡皮圈和安全别针将集尿袋的引流管固定在床单上，开放导尿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患者取舒适卧位，整理床单位，清理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手，记录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同导尿术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双腔气囊导尿管固定时要注意膨胀的气囊不能卡在尿道内口，以免气囊压迫膀胱壁，造成黏膜的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及其家属解释留置导尿的目的和护理方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并鼓励其主动参与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释摄取足够的水分和进行适当的活动对预防泌尿道感染的重要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保持引流通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避免导尿管受压、扭曲、堵塞等导致泌尿系统的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离床活动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妥善固定导尿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防导尿管脱出。集尿袋不得超过膀胱高度并避免挤压，防止尿液返流导致感染的发生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4560" y="1309320"/>
            <a:ext cx="88930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留置导尿管患者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防止泌尿系统逆行感染的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保持尿道口清洁。女患者用消毒液棉球擦拭外阴及尿道口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男患者用消毒液棉球擦拭尿道口、龟头及包皮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每天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次。</a:t>
            </a:r>
            <a:endParaRPr b="0" lang="en-US" sz="25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每周更换集尿袋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次，若有尿液性状、颜色改变需及时更换。及时排空集尿袋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并记录尿量。</a:t>
            </a:r>
            <a:endParaRPr b="0" lang="en-US" sz="25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定期更换导尿管，尿管的更换频率根据导尿管的材质决定，一般为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周更换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次。</a:t>
            </a:r>
            <a:endParaRPr b="0" lang="en-US" sz="25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与排尿有关的解剖与生理</a:t>
            </a: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0040" y="1403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泌尿系统的结构与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输尿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留置导尿管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鼓励患者多饮水，达到自然冲洗尿路的目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训练膀胱反射功能，可采用间歇性夹管方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夹闭导尿管，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开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，使膀胱定时充盈和排空，促进膀胱功能的恢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患者的主诉并观察尿液情况，发现尿液混浊、沉淀、有结晶时，应及时处理，每周尿常规检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膀胱冲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留置导尿管的患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持其尿液引流通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清洁膀胱  清除膀胱内的血凝块、黏液、细菌等异物，预防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治疗某些膀胱疾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膀胱炎，膀胱肿瘤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5904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膀胱冲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05600" indent="-2714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258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12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三）膀胱冲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1280" indent="-341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密闭式膀胱冲洗术为例，用物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741240" indent="-28404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用冲洗溶液：生理盐水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02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呋喃西林液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硼酸液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1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霉素溶液。灌入溶液的温度约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若为前列腺肥大摘除术后患者，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9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氯化钠溶液灌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膀胱冲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对、解释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导尿、固定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空膀胱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接好冲洗装置，准备冲洗膀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6" name="Group 7"/>
          <p:cNvGrpSpPr/>
          <p:nvPr/>
        </p:nvGrpSpPr>
        <p:grpSpPr>
          <a:xfrm>
            <a:off x="5688000" y="1773360"/>
            <a:ext cx="3456000" cy="3124440"/>
            <a:chOff x="5688000" y="1773360"/>
            <a:chExt cx="3456000" cy="3124440"/>
          </a:xfrm>
        </p:grpSpPr>
        <p:pic>
          <p:nvPicPr>
            <p:cNvPr id="177" name="Picture 5" descr="图14-2 Y型膀胱冲洗管"/>
            <p:cNvPicPr/>
            <p:nvPr/>
          </p:nvPicPr>
          <p:blipFill>
            <a:blip r:embed="rId1"/>
            <a:stretch/>
          </p:blipFill>
          <p:spPr>
            <a:xfrm>
              <a:off x="5688000" y="1773360"/>
              <a:ext cx="3456000" cy="266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6"/>
            <p:cNvSpPr/>
            <p:nvPr/>
          </p:nvSpPr>
          <p:spPr>
            <a:xfrm>
              <a:off x="6825600" y="4529520"/>
              <a:ext cx="121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46ca6"/>
                  </a:solidFill>
                  <a:latin typeface="Arial"/>
                </a:rPr>
                <a:t>Y</a:t>
              </a:r>
              <a:r>
                <a:rPr b="1" lang="zh-CN" sz="1800" spc="-1" strike="noStrike">
                  <a:solidFill>
                    <a:srgbClr val="046ca6"/>
                  </a:solidFill>
                  <a:latin typeface="Arial"/>
                </a:rPr>
                <a:t>型膀胱冲洗管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冲洗膀胱：关闭引流管，开放冲洗管，使溶液滴入膀胱，调节滴速。待患者有尿意或滴入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后，关闭冲洗管，放开引流管，将冲洗液全部引流出来后，再关闭引流管，按需要如此反复冲洗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250920" y="14954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冲洗后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清洁外阴部，固定好导尿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患者取舒适卧位，整理床单位，清理物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手，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206280" y="11350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执行无菌技术操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避免黏膜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冲洗时嘱患者深呼吸，尽量放松，以减少疼痛若患者有腹痛、腹胀、膀胱收缩剧烈等情形，应暂停冲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冲洗后如出血较多或血压下降，应立即报告医生给予处理，并注意准确记录冲洗液量及性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240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及其家属解释膀胱冲洗的目的和护理方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并鼓励其主动配合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说明摄取足够水分的重要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每天饮水量应维持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产生足够的尿量冲洗尿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达到预防感染发生的目的。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857160" y="2214720"/>
            <a:ext cx="807732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宋体"/>
              </a:rPr>
              <a:t>第二节  排便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肾的结构与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剖学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对的实质性器宫，位于脊柱两侧，第十二胸椎和第三腰椎之间，贴于腹后壁，呈蚕豆状，右肾略低于左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63480" y="152352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与排便有关的解剖与生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便的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便异常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与排便有关的护理技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与排便有关的解剖与生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8000" y="1525320"/>
            <a:ext cx="88200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肠的解剖：全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5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起自回肠末端止于肛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盲肠：大肠与小肠的衔接部分，其内有回盲瓣，起括约肌的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肠：分升结肠、横结肠、降结肠和乙状结肠，围绕在小肠周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肠：全长约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6c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有两个弯曲：骶曲和会阴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肛管：长约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c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大肠的生理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吸收水分、电解质和维生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形成粪便并排出体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利用肠内细菌制造维生素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肠的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袋状往返运动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节或多袋推进运动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蠕动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集团蠕动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肠反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十二指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肠反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排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肠蠕动将粪便推入直肠，刺激直肠壁内的感受器，其兴奋冲动经盆神经和腹下神经传至脊髓腰骶段的初级排便中枢，同时上传到大脑皮质，引起便意和排便反射。此外，由于支配腹肌和膈肌的神经兴奋，腹肌、膈肌收缩，腹内压增加，共同促进粪便排出体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排便的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1356840"/>
            <a:ext cx="91440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的评估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次数：成人每天排便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，婴幼儿每天排便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。每天排便超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（成人）或每周少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，应视为排便异常如腹泻、便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量：成人每天排便量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0g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粪便的性状：形状与软硬度、颜色、内容物、气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85560" y="1809360"/>
            <a:ext cx="850716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形状与软硬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粪便为成形软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时粪便坚硬、呈栗子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消化不良或急性肠炎可为稀便或水样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道部分梗阻或直肠狭窄，粪便常呈扁条形或带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57200" y="1668600"/>
            <a:ext cx="82296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颜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正常颜色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成人的粪便为黄褐色或棕黄色。婴儿的粪便呈黄色或金黄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6836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异常颜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柏油样便：为上消化道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白陶土色便：胆道梗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下暗红色血便：消化道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果酱样便：肠套叠、阿米巴痢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粪便表面粘有鲜红色血液：痔疮或肛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白色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米泔水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样便：霍乱、副霍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内容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7680" indent="-3376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内容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33680" indent="-28116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粪便内容物主要为食物残渣、脱落的大量肠上皮细胞、细菌以及机体代谢后的废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37680" indent="-3376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内容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33680" indent="-28116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消化道感染或出血，粪便中可见混入或粪便表面附有血液、脓液或肉眼可见的黏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33680" indent="-28116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道寄生虫感染，粪便中可查见蛔虫、蛲虫、绦虫节片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571680" y="13568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理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产生尿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泄代谢产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调节水、电解质及酸碱平衡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内分泌的功能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324000" y="1268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时粪便气味因膳食种类而异，肉食者味重，素食者味轻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 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重腹泻患者的粪便呈碱性反应气味极恶臭。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下消化道溃疡、恶性肿瘤患者的粪便呈腐败臭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上消化道出血的柏油样粪便呈腥臭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消化不良、乳糖类未充分消化或吸收脂肪酸产生气体，粪便呈酸性反应，气味为酸败臭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异常排便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便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粪便嵌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腹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排便失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肠胀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影响排便因素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理因素：年龄、个人排泄习惯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因素：精神抑郁、情绪紧张、焦虑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社会文化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饮食与活动：食物与液体摄入、活动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疾病有关的因素：疾病、药物、治疗检查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68000" y="149544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便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nstip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正常的排便形态改变，排便次数减少，排出过干过硬的粪便，且排便不畅、困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见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未建立排便习惯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饮食、饮水、运动不当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绪低落；疾病、怀孕、用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矩形 2"/>
          <p:cNvSpPr/>
          <p:nvPr/>
        </p:nvSpPr>
        <p:spPr>
          <a:xfrm>
            <a:off x="6528600" y="28584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三、排便异常的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症状体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头痛、腹痛、腹胀、食欲不佳、消化不良、舌苔变后，粪便干硬。触诊腹部较硬，紧张，可触及包块，肛诊可触及粪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57120" y="1428480"/>
            <a:ext cx="878688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粪便嵌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粪便嵌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fecal impaction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粪便持久滞留堆积在直肠内，坚硬不能排出。常发生于慢性便秘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因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未能及时解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和体征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持续便意、腹胀、无法排出粪便、少量液化粪便流出、直肠肛门疼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腹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diarrhea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正常排便形态改变，频繁排出松散稀薄的粪便甚至水样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饮食不当或使用泻剂不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绪紧张焦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消化系统发育不成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胃肠道疾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某些内分泌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症状和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腹痛、肠痉挛、疲乏、恶心、呕吐、肠鸣、有急于排便的需要和难以控制的感觉。粪便松散或呈液体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324000" y="141264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四）排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失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fecal incontinence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肛门括约肌不受意识的控制而不自主地排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35480" indent="-282960">
              <a:lnSpc>
                <a:spcPct val="13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35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肌肉系统的病变或损伤如瘫痪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35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胃肠道疾患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35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障碍、情绪失调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ct val="13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和体征：患者不自主地排出粪便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46040" y="148392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五）肠胀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胀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flatulence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胃肠道内有过量气体积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能排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食入产气性食物过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吞入大量空气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蠕动减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道梗阻及肠道手术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904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输尿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连接肾和膀胱的细长肌性管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各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人输尿管全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有三个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68520" indent="-257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起始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668520" indent="-257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跨骨盆入口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668520" indent="-257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穿膀胱壁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08520" indent="-30852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理功能：将尿液由肾输送至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三、排便异常的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12952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供适当的排便环境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取适宜的排便姿势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腹部环形按摩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遵医嘱给予口服缓泻药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使用简易通便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6840" y="1356840"/>
            <a:ext cx="816444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遵医嘱给予灌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帮助患者重建正常的排便习惯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合理安排膳食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鼓励患者适当运动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79280" y="1452240"/>
            <a:ext cx="89647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粪便嵌塞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早期可使用栓剂、口服缓泻剂来润肠通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必要时先行油类保留灌肠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h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后再做清洁灌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工取便：用人工取便易刺激迷走神经，故心脏病、脊椎受损者须慎重使用。操作中如患者 出现心悸、头昏时须立刻停止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相关知识的健康教育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腹泻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去除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卧床休息，减少肠蠕动，注意腹部保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膳食调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防治水和电解质紊乱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720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腹泻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维持皮肤完整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密切观察病情，记录排便的性质、次数等，必要时留取标本送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心理支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相关知识的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失禁患者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护皮肤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帮助患者重建控制排便的能力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无禁忌，保证患者每天摄入足量的液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持床褥、衣服清洁，室内空气清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肠胀气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指导患者养成良好的饮食习惯（细嚼慢咽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去除引起肠胀气的原因。如勿食产气食物和饮料，积极治疗肠道疾患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鼓励患者适当活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轻微胀气时，可行腹部热敷或腹部按摩、针刺疗法。严重胀气时，遵医嘱给予药物治疗或行肛管排气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四、与排便有关的护理技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灌肠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肛管排气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84247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（一）灌肠法</a:t>
            </a:r>
            <a:r>
              <a:rPr b="1" lang="en-US" sz="3200" spc="-1" strike="noStrike">
                <a:solidFill>
                  <a:srgbClr val="8ac8de"/>
                </a:solidFill>
                <a:latin typeface="宋体"/>
                <a:ea typeface="宋体"/>
              </a:rPr>
              <a:t>(enema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概念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将一定量的液体由肛门经直肠灌入结肠，以帮助患者清洁肠道、排便、排气或由肠道供给药物或营养，达到确定诊断和治疗目的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-36360" y="1452240"/>
            <a:ext cx="88200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分类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根据灌肠的目的：分为保留灌肠和不保留灌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根据灌入的液体量：将不保留灌肠分为大量不保留灌肠和小量不保留灌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为了达到清洁肠道的目的，而反复使用大量不保留灌肠，则为清洁灌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57120" y="13568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剖学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储存尿液的有伸展性的囊状肌性器官，位于小骨盆内、耻骨联合的后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的肌层由三层纵横交错的平滑肌组成，称为膀胱逼尿肌，排尿时需靠此肌肉收缩来协助完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理功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贮存尿液和排泄尿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大量不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除便秘、肠胀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清洁肠道。为肠道手术、检查或分娩作准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稀释并清除肠道内的有害物质，减轻中毒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灌入低温液体，为高热患者降温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456840" y="1357200"/>
            <a:ext cx="816444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294840" y="1196640"/>
            <a:ext cx="8164440" cy="35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733680" indent="-28116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物准备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733680" indent="-28116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灌肠溶液：常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1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2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肥皂液，生理盐水。成人每次用量为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小儿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溶液温度一般为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9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1℃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降温时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2℃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中暑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℃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733680" indent="-28116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灌肠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5" name="Group 7"/>
          <p:cNvGrpSpPr/>
          <p:nvPr/>
        </p:nvGrpSpPr>
        <p:grpSpPr>
          <a:xfrm>
            <a:off x="2916360" y="4122720"/>
            <a:ext cx="3384360" cy="2737080"/>
            <a:chOff x="2916360" y="4122720"/>
            <a:chExt cx="3384360" cy="2737080"/>
          </a:xfrm>
        </p:grpSpPr>
        <p:pic>
          <p:nvPicPr>
            <p:cNvPr id="226" name="Picture 5" descr="图14-3 一次性灌肠用物"/>
            <p:cNvPicPr/>
            <p:nvPr/>
          </p:nvPicPr>
          <p:blipFill>
            <a:blip r:embed="rId1"/>
            <a:stretch/>
          </p:blipFill>
          <p:spPr>
            <a:xfrm>
              <a:off x="2916360" y="4122720"/>
              <a:ext cx="3384360" cy="23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Text Box 6"/>
            <p:cNvSpPr/>
            <p:nvPr/>
          </p:nvSpPr>
          <p:spPr>
            <a:xfrm>
              <a:off x="4430520" y="64915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</a:rPr>
                <a:t>一次性灌肠器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对并解释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备体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垫橡胶单和治疗巾于臀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盖好被子，暴露臀部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备灌肠器、戴手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连接润滑肛管、排气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插肛管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323640" y="1341000"/>
            <a:ext cx="86756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灌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密切观察筒内液面下降和患者的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拔管、嘱其尽量保留灌肠液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min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排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：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整理用物、采集标本、按相关要求处理用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手，在体温单大便栏目处记录灌肠结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-360" y="1357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妊娠、急腹症、严重心血管疾病等患者禁忌灌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伤寒患者灌肠时溶液不得超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压力要低（液面不得超过肛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c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肝昏迷患者灌肠时，禁用肥皂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确掌握灌肠溶液的温度、浓度、流速、压力和溶液的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灌肠时患者如有腹胀或便意时，应嘱患者作深呼吸，以减轻不适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灌肠过程中应随时注意观察患者的病情变化，如发现脉速、面色苍白、出冷汗、剧烈腹痛、心慌气急时，应立即停止灌肠并及时与医生联系，采取急救措施。</a:t>
            </a:r>
            <a:r>
              <a:rPr b="0" lang="zh-CN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向患者及家属讲解维持正常排便习惯的重要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指导患者及家属保持健康的生活习惯以维持正常排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指导患者灌肠时的配合方法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小量不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用人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用于腹部或盆腔手术后的患者、危重患者、年老体弱、小儿及孕妇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软化粪便，解除便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除肠道内的气体，减轻腹胀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5720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dell</cp:lastModifiedBy>
  <dcterms:modified xsi:type="dcterms:W3CDTF">2016-01-07T03:12:55Z</dcterms:modified>
  <cp:revision>251</cp:revision>
  <dc:subject/>
  <dc:title>内科护理学</dc:title>
</cp:coreProperties>
</file>